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gif" ContentType="image/gi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A884-2AD4-49DB-812F-55E4FFF01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9F62-8C5F-4A11-9092-E4CB58CE2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1E43-5253-469B-8B9C-DCE56BADA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ED2B-45FE-4805-B166-29F2AAE2B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4BA42-0BF9-4C37-9ADE-FE5D91E8E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362D1-FA93-4CA8-8643-CEC493D47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3F4DD-313B-4D47-8A35-4FBEBC845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3E406-6B37-4AE8-8043-72BB7BEDA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EC578-EFDA-4962-8DAF-EB0068F11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CAFB9-C0DA-48F0-94AE-29E052986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C5FD1-A022-4E38-9C32-502E4466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65FC-3162-4893-BD09-9DC72911F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48C3F-76C4-4C72-954A-0F568417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9BEC7-EAC9-45CA-B506-A9B4E8CB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082C4-8695-4F31-AFC5-3213B4F02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0E5CA-EA7C-4A6E-9AC9-686917F23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0D03B-0AC2-4E88-8823-0372D4F3A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07458-0B60-426F-9437-99CF1721E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D0AE2-F7FD-4706-A16A-0B1D67C29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936B3-82DF-4ADE-8989-65EB9005E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B48A1-3A3F-41BD-92D8-41199949A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B3EF2-3E02-469B-B890-D4686BFF6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15F8-6DE8-4BE3-8D8B-96100BB1F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9DF5C-7DBB-4601-95D8-A12740567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54829-4B87-454A-9B19-48FBF7C9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B88D7-6D92-49CC-895B-6E6ED9D8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BF9A4-0EE4-424A-9838-87048A91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C260B-274C-4775-96BF-E9B656D23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85EF6-5FCE-4649-9CF7-5DF05BE1E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D7525-41DF-4B31-9E6F-E9C7FB927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DB75A-CC6E-4E0B-B973-FD33C0AD7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26A14-EE7A-443F-B5E9-C1EBF0737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53FFD-E723-4F2B-A89A-7F2D93B60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2F7B-A972-49FB-8CEB-3E9A3C8BC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BC304-4697-4527-A989-94F9554CB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BA2E7-9A92-4BB2-8D55-25827D13D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3537E-5AA1-4139-A0C3-3B71187E4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16C9C-8E2F-4E3F-9356-626C5512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F177E-D05E-4156-85AE-B4CABC02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47D84-07BD-4607-AB13-8094B745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C368D-7FA9-4553-8F70-5F4AEFE4A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615D3-B5BB-4EEA-AFD4-B25AE9AF0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C799C-C27B-4C07-B3B3-227CA977E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59E08-E499-4281-8DD0-BDE1CB69C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4700-3A9A-4D93-A928-D8E0351A1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C9866-33AB-44CF-878A-ED104C835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0E90B-8E77-45CE-ADDA-2CDD6D882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0416C-39D2-47D7-8147-C97E88CB8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8C0F6-E64D-4C60-9F98-AFCFF122B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B510C-621A-464D-9730-6A7B41A7D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2DB39-C358-4F5B-B822-55D6FAF5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9859F-C80A-4A21-8A5A-71ABF55E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B7674-104F-49F1-852D-7646AC5C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E3360-8CA2-4437-9A9D-5F6EBD363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777A0-D75B-49C5-BC70-169FB3FEF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EEF4-5043-43CF-9962-7D8615069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6D6D5-BF8E-45E6-A8CF-9039EA361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F821-27C4-4762-93F5-767657F5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C937-CAB7-46F2-8DFF-68BB2BE5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5520-D01E-4939-AD21-29F6AC06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39608-E2DD-4684-9EFD-3D742346723F}" type="datetime">
              <a:rPr b="0" lang="en-ZA" sz="1000" spc="-1" strike="noStrike">
                <a:solidFill>
                  <a:srgbClr val="b13f9a"/>
                </a:solidFill>
                <a:latin typeface="Arial"/>
              </a:rPr>
              <a:t>26-07-28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3AB8F-DC61-492D-8ACC-996D514FBAB3}" type="slidenum">
              <a:rPr b="0" lang="en-ZA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E1BE5-9D3E-4C11-AF17-F7F1E68EDDFF}" type="datetime">
              <a:rPr b="0" lang="en-ZA" sz="1000" spc="-1" strike="noStrike">
                <a:solidFill>
                  <a:srgbClr val="ffffff"/>
                </a:solidFill>
                <a:latin typeface="Arial"/>
              </a:rPr>
              <a:t>26-07-28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79CA7-D948-4700-926A-97DBFE19AA61}" type="slidenum">
              <a:rPr b="0" lang="en-ZA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F5347-FE63-4011-9192-177C8A4636EE}" type="datetime">
              <a:rPr b="0" lang="en-ZA" sz="1000" spc="-1" strike="noStrike">
                <a:solidFill>
                  <a:srgbClr val="b13f9a"/>
                </a:solidFill>
                <a:latin typeface="Arial"/>
              </a:rPr>
              <a:t>26-07-28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14C31-E04D-4BFC-AB0C-5ECD55EF69D5}" type="slidenum">
              <a:rPr b="0" lang="en-ZA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751AD-CB1F-444F-AE58-70AFC1829048}" type="datetime">
              <a:rPr b="0" lang="en-ZA" sz="1000" spc="-1" strike="noStrike">
                <a:solidFill>
                  <a:srgbClr val="f4e7ed"/>
                </a:solidFill>
                <a:latin typeface="Arial"/>
              </a:rPr>
              <a:t>26-07-28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91757-5C53-43AF-9811-6D15E3378937}" type="slidenum">
              <a:rPr b="0" lang="en-ZA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2EBA0-C57D-49F8-BAC1-C4E700B8A8E2}" type="datetime">
              <a:rPr b="0" lang="en-ZA" sz="1000" spc="-1" strike="noStrike">
                <a:solidFill>
                  <a:srgbClr val="b13f9a"/>
                </a:solidFill>
                <a:latin typeface="Arial"/>
              </a:rPr>
              <a:t>26-07-28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04317-77E9-47FB-A462-2D46E64243A1}" type="slidenum">
              <a:rPr b="0" lang="en-ZA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Box 2"/>
          <p:cNvSpPr/>
          <p:nvPr/>
        </p:nvSpPr>
        <p:spPr>
          <a:xfrm>
            <a:off x="900000" y="2349360"/>
            <a:ext cx="7272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3200" spc="-1" strike="noStrike">
                <a:solidFill>
                  <a:srgbClr val="591f4d"/>
                </a:solidFill>
                <a:latin typeface="comic"/>
              </a:rPr>
              <a:t>PREPARATIONS FOR THE STATE FUNERAL OF THE L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3200" spc="-1" strike="noStrike">
                <a:solidFill>
                  <a:srgbClr val="591f4d"/>
                </a:solidFill>
                <a:latin typeface="comic"/>
              </a:rPr>
              <a:t>FORMER PRESID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3200" spc="-1" strike="noStrike">
                <a:solidFill>
                  <a:srgbClr val="591f4d"/>
                </a:solidFill>
                <a:latin typeface="comic"/>
              </a:rPr>
              <a:t>NELSON ROLIHLAHLA MAND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3200" spc="-1" strike="noStrike">
                <a:solidFill>
                  <a:srgbClr val="591f4d"/>
                </a:solidFill>
                <a:latin typeface="comic"/>
              </a:rPr>
              <a:t>MPUMALANGA PROVINC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351E3-BC07-426D-AE2F-023532751243}" type="slidenum">
              <a:rPr b="0" lang="en-ZA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itle 1" descr=""/>
          <p:cNvPicPr/>
          <p:nvPr/>
        </p:nvPicPr>
        <p:blipFill>
          <a:blip r:embed="rId1"/>
          <a:stretch/>
        </p:blipFill>
        <p:spPr>
          <a:xfrm>
            <a:off x="457200" y="237960"/>
            <a:ext cx="7242120" cy="15116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000" spc="-1" strike="noStrike">
                <a:solidFill>
                  <a:srgbClr val="000000"/>
                </a:solidFill>
                <a:latin typeface="Trebuchet MS"/>
              </a:rPr>
              <a:t>Ehlanzeni Rally at Driekoppies Stadium in Nkomazi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000" spc="-1" strike="noStrike">
                <a:solidFill>
                  <a:srgbClr val="000000"/>
                </a:solidFill>
                <a:latin typeface="Trebuchet MS"/>
              </a:rPr>
              <a:t>Bohlabelo Rally at Mkhuhlu Stadium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480C8-FB93-418D-B0BB-8660D7B66094}" type="slidenum">
              <a:rPr b="0" lang="en-ZA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457200" y="476280"/>
            <a:ext cx="77868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2800" spc="-1" strike="noStrike">
                <a:solidFill>
                  <a:srgbClr val="b13f9a"/>
                </a:solidFill>
                <a:latin typeface="Trebuchet MS"/>
              </a:rPr>
              <a:t>DAY 9: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2800" spc="-1" strike="noStrike">
                <a:solidFill>
                  <a:srgbClr val="b13f9a"/>
                </a:solidFill>
                <a:latin typeface="Trebuchet MS"/>
              </a:rPr>
              <a:t>Saturday, 14 December 2013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00"/>
                </a:solidFill>
                <a:latin typeface="Trebuchet MS"/>
              </a:rPr>
              <a:t>Night Vigi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i="1" lang="en-ZA" sz="2400" spc="-1" strike="noStrike">
                <a:solidFill>
                  <a:srgbClr val="000000"/>
                </a:solidFill>
                <a:latin typeface="Trebuchet MS"/>
              </a:rPr>
              <a:t>Mbombela Stadium as the main venu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Trebuchet MS"/>
              </a:rPr>
              <a:t>To be provide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Trebuchet MS"/>
              </a:rPr>
              <a:t>- Transport                                    - T-Shirt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Trebuchet MS"/>
              </a:rPr>
              <a:t>- Stage                                          - Sound System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Trebuchet MS"/>
              </a:rPr>
              <a:t>- Outdoor Audio-Visual Screens     - Bottled Water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Trebuchet MS"/>
              </a:rPr>
              <a:t>- Catering                                      - Banner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Slide Number Placeholder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625E6-4C9F-4570-B3F0-69B80BFF5DF3}" type="slidenum">
              <a:rPr b="0" lang="en-ZA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4000" spc="-1" strike="noStrike">
                <a:solidFill>
                  <a:srgbClr val="b13f9a"/>
                </a:solidFill>
                <a:latin typeface="Trebuchet MS"/>
              </a:rPr>
              <a:t>DAY 10: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4000" spc="-1" strike="noStrike">
                <a:solidFill>
                  <a:srgbClr val="b13f9a"/>
                </a:solidFill>
                <a:latin typeface="Trebuchet MS"/>
              </a:rPr>
              <a:t>Sunday,15 December 2013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000000"/>
                </a:solidFill>
                <a:latin typeface="Trebuchet MS"/>
              </a:rPr>
              <a:t>BURIAL DAY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000000"/>
                </a:solidFill>
                <a:latin typeface="Trebuchet MS"/>
              </a:rPr>
              <a:t>Link the main event to Mbombela Stadium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ZA" sz="4000" spc="-1" strike="noStrike">
                <a:solidFill>
                  <a:srgbClr val="000000"/>
                </a:solidFill>
                <a:latin typeface="Trebuchet MS"/>
              </a:rPr>
              <a:t>Catering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Slide Number Placeholder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C0071-02D5-46A3-9D54-85166ADFFAFC}" type="slidenum">
              <a:rPr b="0" lang="en-ZA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829880"/>
            <a:ext cx="723888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Trebuchet MS"/>
              </a:rPr>
              <a:t>Nelson Rolihlahla Mandela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Trebuchet MS"/>
              </a:rPr>
              <a:t>1918-2013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Trebuchet MS"/>
              </a:rPr>
              <a:t>Hamba Kahle Madiba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C5BE8-BFFD-4429-A831-FD0580D58659}" type="slidenum">
              <a:rPr b="0" lang="en-ZA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133" descr="south_africa_fl_md_wht"/>
          <p:cNvPicPr/>
          <p:nvPr/>
        </p:nvPicPr>
        <p:blipFill>
          <a:blip r:embed="rId1"/>
          <a:stretch/>
        </p:blipFill>
        <p:spPr>
          <a:xfrm>
            <a:off x="2054160" y="4151160"/>
            <a:ext cx="364032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14440" y="260280"/>
            <a:ext cx="7772400" cy="1857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b00c4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914400" y="1827360"/>
            <a:ext cx="77724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en-US" sz="7200" spc="-1" strike="noStrike">
                <a:solidFill>
                  <a:srgbClr val="000000"/>
                </a:solidFill>
                <a:latin typeface="Trebuchet MS"/>
              </a:rPr>
              <a:t>END</a:t>
            </a:r>
            <a:endParaRPr b="0" lang="en-US" sz="7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4" name="Picture 4" descr="Writting_books"/>
          <p:cNvPicPr/>
          <p:nvPr/>
        </p:nvPicPr>
        <p:blipFill>
          <a:blip r:embed="rId1"/>
          <a:stretch/>
        </p:blipFill>
        <p:spPr>
          <a:xfrm>
            <a:off x="6786720" y="5554800"/>
            <a:ext cx="1500120" cy="1303200"/>
          </a:xfrm>
          <a:prstGeom prst="rect">
            <a:avLst/>
          </a:prstGeom>
          <a:ln w="0">
            <a:noFill/>
          </a:ln>
        </p:spPr>
      </p:pic>
      <p:sp>
        <p:nvSpPr>
          <p:cNvPr id="255" name="Slide Number Placeholder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0CFCD-039C-47C7-AFD9-B5272083A0E7}" type="slidenum">
              <a:rPr b="0" lang="en-ZA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4382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rebuchet MS"/>
              </a:rPr>
              <a:t>National and Provincial Governmen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rebuchet MS"/>
              </a:rPr>
              <a:t>Municipaliti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rebuchet MS"/>
              </a:rPr>
              <a:t>SAP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rebuchet MS"/>
              </a:rPr>
              <a:t>SANDF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rebuchet MS"/>
              </a:rPr>
              <a:t>Alliance Partner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rebuchet MS"/>
              </a:rPr>
              <a:t>Religious Leaders led by SACC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rebuchet MS"/>
              </a:rPr>
              <a:t>Traditional Leader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rebuchet MS"/>
              </a:rPr>
              <a:t>1800 Schools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rebuchet MS"/>
              </a:rPr>
              <a:t>ECD Sector (to do drawings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rebuchet MS"/>
              </a:rPr>
              <a:t>Mozambique and Swazilan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rebuchet MS"/>
              </a:rPr>
              <a:t>Tourists (KNP &amp; KMIA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Slide Number Placeholder 2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1AAA7-30EF-4FA3-8A63-9668756B9104}" type="slidenum">
              <a:rPr b="0" lang="en-ZA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4400" spc="-1" strike="noStrike">
                <a:solidFill>
                  <a:srgbClr val="b13f9a"/>
                </a:solidFill>
                <a:latin typeface="Trebuchet MS"/>
              </a:rPr>
              <a:t>DAY 1: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4400" spc="-1" strike="noStrike">
                <a:solidFill>
                  <a:srgbClr val="b13f9a"/>
                </a:solidFill>
                <a:latin typeface="Trebuchet MS"/>
              </a:rPr>
              <a:t>Friday, 06 December 2013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2600" spc="-1" strike="noStrike">
                <a:solidFill>
                  <a:srgbClr val="000000"/>
                </a:solidFill>
                <a:latin typeface="Trebuchet MS"/>
              </a:rPr>
              <a:t>Announcement by the President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2600" spc="-1" strike="noStrike">
                <a:solidFill>
                  <a:srgbClr val="000000"/>
                </a:solidFill>
                <a:latin typeface="Trebuchet MS"/>
              </a:rPr>
              <a:t>Media Conference by the Premier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2600" spc="-1" strike="noStrike">
                <a:solidFill>
                  <a:srgbClr val="000000"/>
                </a:solidFill>
                <a:latin typeface="Trebuchet MS"/>
              </a:rPr>
              <a:t>Activation of PROVJOINTS/PROVJOC/CLUSTER JOC’s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2600" spc="-1" strike="noStrike">
                <a:solidFill>
                  <a:srgbClr val="000000"/>
                </a:solidFill>
                <a:latin typeface="Trebuchet MS"/>
              </a:rPr>
              <a:t>Implementation of tactical plans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2600" spc="-1" strike="noStrike">
                <a:solidFill>
                  <a:srgbClr val="000000"/>
                </a:solidFill>
                <a:latin typeface="Trebuchet MS"/>
              </a:rPr>
              <a:t>Gathering of information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2600" spc="-1" strike="noStrike">
                <a:solidFill>
                  <a:srgbClr val="000000"/>
                </a:solidFill>
                <a:latin typeface="Trebuchet MS"/>
              </a:rPr>
              <a:t>Provision of Flags and Poles in all municipalities and school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2600" spc="-1" strike="noStrike">
                <a:solidFill>
                  <a:srgbClr val="000000"/>
                </a:solidFill>
                <a:latin typeface="Trebuchet MS"/>
              </a:rPr>
              <a:t>Lowering of the flag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2600" spc="-1" strike="noStrike">
                <a:solidFill>
                  <a:srgbClr val="000000"/>
                </a:solidFill>
                <a:latin typeface="Trebuchet MS"/>
              </a:rPr>
              <a:t>Activation /setting up of Mourning Centr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Slide Number Placeholder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BAFF3-E48C-4C74-AA00-9ACB1BA0E96F}" type="slidenum">
              <a:rPr b="0" lang="en-ZA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45720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2800" spc="-1" strike="noStrike">
                <a:solidFill>
                  <a:srgbClr val="b13f9a"/>
                </a:solidFill>
                <a:latin typeface="Trebuchet MS"/>
              </a:rPr>
              <a:t>DAY 2: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3440" indent="-253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2800" spc="-1" strike="noStrike">
                <a:solidFill>
                  <a:srgbClr val="b13f9a"/>
                </a:solidFill>
                <a:latin typeface="Trebuchet MS"/>
              </a:rPr>
              <a:t>Saturday, 07 December 2013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3440" indent="-253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2800" spc="-1" strike="noStrike">
                <a:solidFill>
                  <a:srgbClr val="000000"/>
                </a:solidFill>
                <a:latin typeface="Trebuchet MS"/>
              </a:rPr>
              <a:t>MOURNING DA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3440" indent="-25344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200" spc="-1" strike="noStrike">
                <a:solidFill>
                  <a:srgbClr val="000000"/>
                </a:solidFill>
                <a:latin typeface="Trebuchet MS"/>
              </a:rPr>
              <a:t>Mourning Centres in Municipalities (4 per Municipality);  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53440" indent="-253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200" spc="-1" strike="noStrike">
                <a:solidFill>
                  <a:srgbClr val="000000"/>
                </a:solidFill>
                <a:latin typeface="Trebuchet MS"/>
              </a:rPr>
              <a:t>Condolence Register/Book (to be brought back to Mbombela Stadium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53440" indent="-253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200" spc="-1" strike="noStrike">
                <a:solidFill>
                  <a:srgbClr val="000000"/>
                </a:solidFill>
                <a:latin typeface="Trebuchet MS"/>
              </a:rPr>
              <a:t>Official Photo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53440" indent="-253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200" spc="-1" strike="noStrike">
                <a:solidFill>
                  <a:srgbClr val="000000"/>
                </a:solidFill>
                <a:latin typeface="Trebuchet MS"/>
              </a:rPr>
              <a:t>Flower and Table Cloth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53440" indent="-253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200" spc="-1" strike="noStrike">
                <a:solidFill>
                  <a:srgbClr val="000000"/>
                </a:solidFill>
                <a:latin typeface="Trebuchet MS"/>
              </a:rPr>
              <a:t>Big candles and flag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53440" indent="-253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200" spc="-1" strike="noStrike">
                <a:solidFill>
                  <a:srgbClr val="000000"/>
                </a:solidFill>
                <a:latin typeface="Trebuchet MS"/>
              </a:rPr>
              <a:t>Tables and chair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53440" indent="-253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200" spc="-1" strike="noStrike">
                <a:solidFill>
                  <a:srgbClr val="000000"/>
                </a:solidFill>
                <a:latin typeface="Trebuchet MS"/>
              </a:rPr>
              <a:t>Condolence flowers’ corner &amp; coordination of florists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53440" indent="-253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200" spc="-1" strike="noStrike">
                <a:solidFill>
                  <a:srgbClr val="000000"/>
                </a:solidFill>
                <a:latin typeface="Trebuchet MS"/>
              </a:rPr>
              <a:t>Bottled water and Tea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53440" indent="-253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200" spc="-1" strike="noStrike">
                <a:solidFill>
                  <a:srgbClr val="000000"/>
                </a:solidFill>
                <a:latin typeface="Trebuchet MS"/>
              </a:rPr>
              <a:t>Security (SAPS &amp; SANDF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53440" indent="-253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200" spc="-1" strike="noStrike">
                <a:solidFill>
                  <a:srgbClr val="000000"/>
                </a:solidFill>
                <a:latin typeface="Trebuchet MS"/>
              </a:rPr>
              <a:t>Mobile Clinics and EM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53440" indent="-253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200" spc="-1" strike="noStrike">
                <a:solidFill>
                  <a:srgbClr val="000000"/>
                </a:solidFill>
                <a:latin typeface="Trebuchet MS"/>
              </a:rPr>
              <a:t>Grading of roads and parking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Slide Number Placeholder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37C3C-58B6-4DDB-B968-E66822EFCE2A}" type="slidenum">
              <a:rPr b="0" lang="en-ZA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3600" spc="-1" strike="noStrike">
                <a:solidFill>
                  <a:srgbClr val="b13f9a"/>
                </a:solidFill>
                <a:latin typeface="Trebuchet MS"/>
              </a:rPr>
              <a:t>DAY 3: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3600" spc="-1" strike="noStrike">
                <a:solidFill>
                  <a:srgbClr val="b13f9a"/>
                </a:solidFill>
                <a:latin typeface="Trebuchet MS"/>
              </a:rPr>
              <a:t>Sunday, 08 December 2013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600" spc="-1" strike="noStrike">
                <a:solidFill>
                  <a:srgbClr val="000000"/>
                </a:solidFill>
                <a:latin typeface="Trebuchet MS"/>
              </a:rPr>
              <a:t>National Day of Prayer and Reflections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ZA" sz="4000" spc="-1" strike="noStrike">
                <a:solidFill>
                  <a:srgbClr val="000000"/>
                </a:solidFill>
                <a:latin typeface="Trebuchet MS"/>
              </a:rPr>
              <a:t>Prayer Sessions in District Municipalities / Regions’ identified venues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Slide Number Placeholder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7E7E-DA65-4B3B-83CC-C5684734BB02}" type="slidenum">
              <a:rPr b="0" lang="en-ZA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4000" spc="-1" strike="noStrike">
                <a:solidFill>
                  <a:srgbClr val="b13f9a"/>
                </a:solidFill>
                <a:latin typeface="Trebuchet MS"/>
              </a:rPr>
              <a:t>DAY 4: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4000" spc="-1" strike="noStrike">
                <a:solidFill>
                  <a:srgbClr val="b13f9a"/>
                </a:solidFill>
                <a:latin typeface="Trebuchet MS"/>
              </a:rPr>
              <a:t>Monday, 09 December 2013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000000"/>
                </a:solidFill>
                <a:latin typeface="Trebuchet MS"/>
              </a:rPr>
              <a:t>MOURNING DAY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ZA" sz="4000" spc="-1" strike="noStrike">
                <a:solidFill>
                  <a:srgbClr val="000000"/>
                </a:solidFill>
                <a:latin typeface="Trebuchet MS"/>
              </a:rPr>
              <a:t>Continuation of prayer sessions in Municipality Mourning Centres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Slide Number Placeholder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BFD09-9CEC-4E6A-872D-F7FE185D30F8}" type="slidenum">
              <a:rPr b="0" lang="en-ZA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4400" spc="-1" strike="noStrike">
                <a:solidFill>
                  <a:srgbClr val="b13f9a"/>
                </a:solidFill>
                <a:latin typeface="Trebuchet MS"/>
              </a:rPr>
              <a:t>DAY 5: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ZA" sz="4400" spc="-1" strike="noStrike">
                <a:solidFill>
                  <a:srgbClr val="b13f9a"/>
                </a:solidFill>
                <a:latin typeface="Trebuchet MS"/>
              </a:rPr>
              <a:t>Tuesday, 10 December 2013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000000"/>
                </a:solidFill>
                <a:latin typeface="Trebuchet MS"/>
              </a:rPr>
              <a:t>National Memorial Day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000000"/>
                </a:solidFill>
                <a:latin typeface="Trebuchet MS"/>
              </a:rPr>
              <a:t>Linking Mbombela with the main event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1" lang="en-ZA" sz="4400" spc="-1" strike="noStrike">
                <a:solidFill>
                  <a:srgbClr val="000000"/>
                </a:solidFill>
                <a:latin typeface="Trebuchet MS"/>
              </a:rPr>
              <a:t>at FNB Stadium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Slide Number Placeholder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C50FF-0ECF-423C-B2BE-DA0E6FB31809}" type="slidenum">
              <a:rPr b="0" lang="en-ZA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Title 1" descr=""/>
          <p:cNvPicPr/>
          <p:nvPr/>
        </p:nvPicPr>
        <p:blipFill>
          <a:blip r:embed="rId1"/>
          <a:stretch/>
        </p:blipFill>
        <p:spPr>
          <a:xfrm>
            <a:off x="438120" y="237960"/>
            <a:ext cx="7273800" cy="150516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-360" y="1413000"/>
            <a:ext cx="8101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000000"/>
                </a:solidFill>
                <a:latin typeface="Trebuchet MS"/>
              </a:rPr>
              <a:t>Madiba’s body will lie in state at the Union Buildings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ZA" sz="4000" spc="-1" strike="noStrike">
                <a:solidFill>
                  <a:srgbClr val="000000"/>
                </a:solidFill>
                <a:latin typeface="Trebuchet MS"/>
              </a:rPr>
              <a:t>Nkangala Rally at Themba Sinamela Stadium, eMhluzi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Slide Number Placeholder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FBF08-8DCC-4432-B485-ED96BC04D6B4}" type="slidenum">
              <a:rPr b="0" lang="en-ZA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Title 1" descr=""/>
          <p:cNvPicPr/>
          <p:nvPr/>
        </p:nvPicPr>
        <p:blipFill>
          <a:blip r:embed="rId1"/>
          <a:stretch/>
        </p:blipFill>
        <p:spPr>
          <a:xfrm>
            <a:off x="457200" y="237960"/>
            <a:ext cx="7242120" cy="15116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000" spc="-1" strike="noStrike">
                <a:solidFill>
                  <a:srgbClr val="000000"/>
                </a:solidFill>
                <a:latin typeface="Trebuchet MS"/>
              </a:rPr>
              <a:t>District Rally for Gert Sibande at Mpumalanga Stadium in Ermelo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C23D8-506E-4372-86D4-1EECCFA6E5D2}" type="slidenum">
              <a:rPr b="0" lang="en-ZA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8T16:02:39Z</dcterms:created>
  <dc:creator>saps</dc:creator>
  <dc:description/>
  <dc:language>en-US</dc:language>
  <cp:lastModifiedBy>Nonhlanhla Mkhize</cp:lastModifiedBy>
  <cp:lastPrinted>2013-12-06T11:43:55Z</cp:lastPrinted>
  <dcterms:modified xsi:type="dcterms:W3CDTF">2014-03-20T14:28:52Z</dcterms:modified>
  <cp:revision>125</cp:revision>
  <dc:subject/>
  <dc:title>DRAFT STATE FUNERAL PLAN MPUMALANGA</dc:title>
</cp:coreProperties>
</file>